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5B3D-C6D9-41DA-A0D1-FB7562E1FD1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508F-FF0D-45C3-867D-9B8E080D96A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86FA-7763-4EA6-B057-44AA466481B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COMMENT ON LETTERS TO THE EDI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FFE1-A151-4AC6-B3F5-16D9A23E1C0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4CEF-C5C7-4A8F-9A69-CC9CC757AF4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DDC0-BB2A-45B5-ADE6-F78A7141033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FE33-2783-496C-B956-D8B16F5FF98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813C-D910-4D5F-B119-4A6162535AF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404B-3F8A-46D6-9292-CCE71F08AE6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7A7C-B2B1-40C7-812F-FBE59C23435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E487-1AA5-4441-A44A-20C7AEDB534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A5C6-E364-407F-BC68-7D4EF14047A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EF8D-8761-472C-B701-A85251F6CFB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6F5F-16CE-42E5-A129-C76C19C35E4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19DA-3C5D-48F1-83A6-25334B06C48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6A45-0EA9-4F41-977B-A76130DD387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BD55-6D80-459E-BA0B-D9814BD0102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FD19-0890-4D88-A245-DA2D2C2D0F6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D59D-3C83-4C6F-9438-7BB6E9065E6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09FF-0B7A-408B-A183-8B332E80AED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DE5B-32DE-4AE3-9E1D-EC8ADA97DF6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6D30-EF56-42C3-9FC0-4900F7B621E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141A-20EC-408E-A97C-08E0F8CB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9BB7-C225-46E4-ACBB-DB6BC514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B12D-2B89-4912-B6A8-BFCEA7DEB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0612-B5FD-41F9-8589-5806877A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7B5C-DE84-4E10-873F-AF2B7F2D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7AF9-F1E2-49F6-826A-C06369E1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3A93-6AD7-45F1-9701-18845D55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36BB-D9E0-4978-B01B-2E4F60D3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CBD5-619A-4C00-A830-8FAED9E9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CFB1-AFC4-442C-8DF1-26A26029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C9F1-34D6-4668-938F-CEDA2598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884F-90DA-48D8-9BF8-3094D717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590C-92DE-4EC4-B2A7-43E85BB6AD23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Calibri"/>
              </a:rPr>
              <a:t>MANAGEMENT  OF ALCOHOL WITHDRAWAL  IN A GENERAL HOSPITAL SETTING- CL PSYCHIATRY PERSPEC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898989"/>
                </a:solidFill>
                <a:latin typeface="Calibri"/>
              </a:rPr>
              <a:t>R.HEWKO  MD  FRCP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898989"/>
                </a:solidFill>
                <a:latin typeface="Calibri"/>
              </a:rPr>
              <a:t>CL PSYCHIATR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898989"/>
                </a:solidFill>
                <a:latin typeface="Calibri"/>
              </a:rPr>
              <a:t>rhewko@telus.n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52 % - 64/124 OF PATIENTS RX DID NOT MEET INCLUSION CRI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14 % - 9 PTS UNABLE TO COMMUNIC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55 % - 35 PTS HAD NO RECENT ALCOHOL H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31 % - 20 PTS MET NEITHER CRI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CIWA DEVOPMENT AND  VALID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PRIVATE HOSPITAL DETO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AGE &lt; 60 YRS OL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PTS MEDICALLY CLE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GEN. HOSPTIAL STUD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EXCLUSION CRITERIA - AG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-SEVERITY OF ILLN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REPRINTED OR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EVELOPED BY AS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300 PTS. IN A VA DETO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3 PTS OVER AGE 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PTS MEDICALLY CL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NICAL LITERATURE – BENZODIAZEPIN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ENTS OF CHO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70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-ANALYSIS HOSPITAL BASED MANAGEMENT OF 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OLBROOK,CMAJ,MAR 9,1999. 160(5) 649-6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ITIVE STUDIES – BENZO’S. NEUROLEPTICS, ANTICONVULSANTS, CHLORAL HYD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NZODIAZIPINES SAFE AND EFFECTIV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NT OF CHOICE FOR TREATMENT OF AW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BENZODIAZEPINE SUPERIOR IN EFFICACY / SAF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LIMITAT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11 “GOOD”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N’s 20-30 PATIENTS PER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EAN AGE 35-4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5 STUDIES LTD PTS TO MILD ILL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LL STUDIES EXCLUDED SEVERELY I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CIWA PROTOCAL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ADVANTAGES = DISADVANTA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EASE AND EFFICIENC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PHYSICIAN INVOLV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      “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IDENTIFY” AT RISK 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INITIATE CIWA – TICK BOX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NURSING STAFF MANAGE THE PATIENT ON “AUTOPILOT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-ASSESS CIWA SCO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-GIVE BENZOS UNTIL SCORE &lt; 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MINIMAL ONGOING PHYSICIAN INVOLV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IMPLICATIONS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CIWA PROTOC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VALIDATED FOR RELATIVELY YOUNG, HEALTHY P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PTS INAPPROPRIATELY STARTED INTO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MOST PHYSICIANS UNAWARE OF LIMIT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MINIMAL FORMAL TE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LIMITED PHYSICIAN MONIT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DELAYED RECOGNITION OF COM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POTENTIAL FOR SIGNIFICANT MORBIDITY/MORTA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PSYCHIATRIC REFERRAL - ONGOING AGITATION / CONFUSIO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- DELIRIU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DELIRIUM – ALCOHOL HX / SEQUELAE OF CIWA PROTOC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D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DT’S 1/3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DELIRIUM “OTHER” ET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BENZODIAZEPINE INTOX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AW AND DELIRIUM OTHER ET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DELIRIUM AND BENZO INTOX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ASSESSMENT/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EVIDENCE / ABSENCE OF AUTONOMIC AROUSAL (A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AA CONTINUE BENZO’S ADD NEUROLEPTICS REG/P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DROWSY / MIN. AA - TAPER BENZO’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TITRATE REG/PRN NEUROLEP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NORMALIZE SLEEP - QUETIAP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AW - MAJOR AUTONOMIC AROUS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EFRACTORY 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AGGRESSIVE BENZO’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LORAZEPAM 2-4 mg QIH P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REG. BENZO’S – LORAZEPAM / DIAZEP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HYPOMAGNESEMIA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DISCLO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NOTHING TO DISCL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HYPOMAGNESEM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COMMON ISSUE IN PATIENTS AT RISK -MAJOR A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HYPOMAG.  - INCR. RISK /SEVERITY OF A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INCR. RISK SEIZURES / SEIZURE 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REFRACTORY HYPOKALE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REFRACTORY WITHDRAWA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BENZO INSENSI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ANIMAL STU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REPLACEMENT – 5 GMs IV Q12H/Q8H 3-6 DO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REFRACTORY DELIR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42 Y/O MALE – ONGOING DELIR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AY 4 – DROWSY/ DISORIEN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VERAGING 10 mg LORAZEPAM LAST 2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ONFUSION/NYSTAGMOUS/ATAX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X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X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ERNICKE’S ENCEPHALOPAT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IAMINE DE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EDICAL EMERG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30 % NEUROLOGIC SEQUELAE EVEN WITH 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X - THIAM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PARENTERAL IM/IV 100m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AT LEAST 3 DAY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RELIABLE UNTIL ORAL INT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IWA PROTOCOL NOT VALIDATED IN EDLERLY MEDICALLY COMPRI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VERUSED WITH INADEQUATE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OSS OF CLINICAL SKILLS / JUD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IGNIFICANT INCIDENCE RESIDUAL DELIR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 LAW SUIT WAITING TO HAPPEN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L PSYCHIARTY ROLE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RIMARY MANAGMENT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ECONDARY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FAILED PRIMARY SERVICE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CLEA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DEPENDANT ON UNDERSTANDING PRIMARY SERVICE MODEL – CIWA PROTOC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IWA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IW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CLINICAL INSTITUTE WITHDRAWAL ASSESSMENT -ALCOH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9 ITEMS ASSESSED BY NURSING STA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LINKED TO A PREPRINTED ORDER S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PRIMARY AGENTS - BENZODIAZP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rcRect l="32814" t="14693" r="29218" b="5669"/>
          <a:stretch/>
        </p:blipFill>
        <p:spPr>
          <a:xfrm>
            <a:off x="2071800" y="214200"/>
            <a:ext cx="507204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32346" t="14693" r="27813" b="2575"/>
          <a:stretch/>
        </p:blipFill>
        <p:spPr>
          <a:xfrm>
            <a:off x="2071800" y="214200"/>
            <a:ext cx="5143320" cy="647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IWA PROTOCOL - ADVAN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VIDENCE BASED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EQUIRE LESS BENZO’S THAN FIXED DOSE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ONSISTANT TREAT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INIMAL PHYSICIAN INVOVL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RIMARILY NURSING BASED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NE SIZE FITS 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MAYO CLINIC ARTI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ITLE – Inappropriate use of Symptom-Triggered Therapy for Alcohol Withdrawal in the General Hosp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Authors – KA Hecksel, JM Bostwick, TM Jae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Ref. Mayo Clin. Proc. 2008;83(3):2004 274-27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124 OF 495 PATIENTS RX WITH CIWA PROTOCOL IN TWO MAYO CLINIC AFFILIATED HOSPT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RANDOM SELECTION ACCOUNTING FOR AGE/GEN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ADMISSION CRITERIA FOR CIWA 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MALES - &gt; 4 DRINKS /DAY WK PRIOR TO HOS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FEMALES - &gt; 2 DRINKS /DAY WK PRIOR TO HOS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ABLE TO COMMUNICATE MEANINGFU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4:00:58Z</dcterms:created>
  <dc:creator>RAH</dc:creator>
  <dc:description/>
  <dc:language>en-US</dc:language>
  <cp:lastModifiedBy>Peter</cp:lastModifiedBy>
  <dcterms:modified xsi:type="dcterms:W3CDTF">2009-10-21T14:06:58Z</dcterms:modified>
  <cp:revision>7</cp:revision>
  <dc:subject/>
  <dc:title>MANAGEMENT  OF ALCOHOL WITHDRAWAL  IN A GENERAL HOSPITAL SETTING- CL PSYCHIATRY PERSPECTIVE</dc:title>
</cp:coreProperties>
</file>